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DAF-7C31-4F84-9CBF-B21E3AE0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BFB-9371-47D9-9AD2-64BD004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A2C-21E8-44AD-9EE3-03033B84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179-0C06-4665-94E2-BA8FB33A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53B7-EAE5-4A21-8101-31E6B7D1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BDD6-AFE4-455B-8C8A-553737E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581-2EC1-47EA-88CE-BBDF21E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5F3D-7D1A-4F24-ADE9-BEE5AFA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DEF-755A-4285-8265-90AA5E0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F718-AA49-455E-97A9-D3321BA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C84-9BF4-45D4-A297-5B79DA9D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B72-5365-4356-83CA-A2B912A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D02-F936-4A45-8FB6-8B97F5F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2BFA-C6DC-4842-BD2D-78A51DE3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7285-D2CD-4BF5-801D-6A14EA78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23F-352E-459F-92E1-462F061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A0D-E0CF-4B87-A09F-3F16776C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6D6-8CA3-4434-B886-5BF8A13C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80C-F831-4820-9611-EC3F2A2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FAD-DC48-4A15-B5E5-72A0858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313-0A93-49D4-9CBF-DD37BE0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201-9624-4A67-B747-9D3E9BBB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D28-FA46-42CC-829B-640B1CC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697-9663-49B4-9E35-F84C85A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AFD-28FB-4785-932B-31D0E9663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000-135E-4EB2-A0B5-D8218EA2B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579132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ff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sebleed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bleeds are usually not ser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an they be cause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be caused by an inju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sebleeds can also be caused by being in a very dry place for too l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can be caused by a co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36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4520" y="122400"/>
            <a:ext cx="7026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top a nosebleed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sebleed victim should sit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n slightly forw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w his or her head 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firmly pinch the nose for about 5 min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leeding doesn’t stop, get medical hel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152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9Z</dcterms:created>
  <dc:creator>Kraybill Campus LMS</dc:creator>
  <dc:description/>
  <dc:language>en-US</dc:language>
  <cp:lastModifiedBy>Kraybill Campus LMS</cp:lastModifiedBy>
  <dcterms:modified xsi:type="dcterms:W3CDTF">2011-05-23T13:09:32Z</dcterms:modified>
  <cp:revision>4</cp:revision>
  <dc:subject/>
  <dc:title>Nosebleeds</dc:title>
</cp:coreProperties>
</file>